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CB76-EC4B-4CF1-A5A2-3030F198413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830-C208-4D8B-8719-5C5F8E1B213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AD3-BEE6-4846-AB82-BA277E5E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0A0-17CD-45B7-AA31-9EEE6B1C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319-18A5-42C8-8A84-D4B920AF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055-2CB6-4F28-8449-743C2917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ECC-0D1C-4968-9BE6-8708865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DB5-EFA9-4301-AE82-1B6E2CCE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C2E-EFF5-44F5-BC26-2056F28C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704-8EAA-42E5-88D0-9B631B9E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551-48FB-451E-A573-B897581C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166-4B5B-4111-9ADF-EC1DE4C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D16-2B18-4366-A9CF-72694EE8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B0E-28EE-4CBC-917B-89AFEC5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B4CE-21B1-49FD-8C34-D2F80093CA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Legislação Ambiental sobre Resíduos Sól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1700280"/>
            <a:ext cx="8569080" cy="47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sonância com as demais políticas afins ( PNRSMMA) e com as políticas sociais de Assistência, de Transferência de Renda e Cidadania (MD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co na inclusão social e emancipação econômica do cat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romisso com o desenvolvimento da cadeia produtiva dos recicláveis beneficiando 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dução à geração de trabalho e renda, para reverter a discriminação social imposta a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liminação do desperdício e estímulo ao reaproveitamento e/ou reciclagem de matérias prim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jeto de MDL na redução de emissões de biogás em aterros e lixões - MCidades, MMA, Banco Mundi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0920" y="1800360"/>
            <a:ext cx="85690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inanciamento, pelo FGTS, para implantação de instalações para o manejo, processamento e destinação final dos resíduos de construção e demoli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anual de Apoio à elaboração de PGIRCD (CAIXA, apoio MCIdad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pacitação de recursos humanos para a gestão dos resíduos, incluindo capacitação para catadores - MCidades/IBAM, FNM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alização de seminários de sensibilização e formação de redes de instituições e de especialistas na temática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envolvimento de banco de dados e sistema de informações em gestão integrada de resíduos – SNIS RS e elaboração de Portal Governamental em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00000" y="1773360"/>
            <a:ext cx="67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2349360"/>
            <a:ext cx="882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916280"/>
            <a:ext cx="7559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71640" y="1844640"/>
            <a:ext cx="691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349360"/>
            <a:ext cx="8164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7634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916280"/>
            <a:ext cx="8207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700280"/>
            <a:ext cx="7345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falta de saneamento provoca impactos ambientais na água dos lençóis freáticos e da superfície. Os resíduos sólidos contaminam a natureza com chorume e gás metano, entre outros poluentes que afetam a camada de ozônio, contribuindo para aumentar o efeito estuf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a estabelece as diretrizes nacionais para o saneamento básico. A nova legislação define as regras para o aumento de investimentos privados e públicos no setor. Os focos são o planejamento, a fiscalização e a participação social.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907920"/>
            <a:ext cx="5677200" cy="10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80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844640"/>
            <a:ext cx="8393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7002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91 de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a Resolução CONSEMA nº 008/2000, que dispõe sobre a composição da Câmara Técnica Permanente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7280" y="28018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73 de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sobre a co-disposição de resíduos sólidos industriais em aterros de resíduos sólidos urbanos no Estado do Rio Grande do S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87280" y="388296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17 de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elece diretrizes para a elaboração e apresentação de Plano de Gerenciamento Integrado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87280" y="5106960"/>
          <a:ext cx="6917040" cy="118908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9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para o Licenciamento Ambiental de Sistema de Incineração de Resíduos provenientes de Serviço de Saúde, classificados como infectantes (Grupo 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20032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2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sobre o licenciamento ambiental para co-processamento de resíduos em fornos de clínqu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3301920"/>
          <a:ext cx="6917040" cy="22860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5 de 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o prazo de duração da Câmara Técnica Provisória para tratar da elaboração de normas e procedimentos de incineração e co-processamento, para o licenciamento ambiental e operação de sistemas de incineração de resíduos sólidos industriais, urbanos e de serviço de saúde no Estado do Rio Grande do Sul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Municipais – 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62864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to nº 9.367 de 29/12/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menta a Lei Complementar nº. 65, de 22/12/81, em relação ao manejo de resíduos sólidos no Município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23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44364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4"/>
          <p:cNvSpPr/>
          <p:nvPr/>
        </p:nvSpPr>
        <p:spPr>
          <a:xfrm>
            <a:off x="1174320" y="587052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2.portoalegre.rs.gov.br/smam/default.php?p_secao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205000"/>
            <a:ext cx="8307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8132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2565360"/>
            <a:ext cx="8523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1280" y="1916280"/>
            <a:ext cx="7856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87280" y="1700280"/>
            <a:ext cx="68407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 obrigar o poder público a produzir planos de resíduos sólidos, de recursos hídricos e de saneamento básico e a criar agências reguladoras, a lei torna o saneamento um negócio seguro e rentável. Outro destaque é o fortalecimento da comunidade na gestão associada dos consórcios municipais a serem implemen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artigo 57 da nova lei modifica o artigo 24 da Lei 8.666, dispensando licitação para contratação de catadores de resíduos sólidos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expectativa do Ministério do Meio Ambiente, com a promulgação da lei do saneamento, é que esta favoreça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vação da Política Nacional de Resíduos Sóli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que se encontra na Casa Civil. As propostas para tal política foram coletadas pelo Ministério e estão sendo estudadas desde 1991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Brasil precisa investir cerca de 180 bilhões de reais num prazo de 20 anos para universalizar os serviços de saneamento bás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2006, foram investidos apenas R$ 4,5 bilhões no se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53341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nte: AESBE (Associação das Empresas de Saneamento Básico Estadu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50920" y="1916280"/>
            <a:ext cx="856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enta: Estabelece diretrizes e normas para o gerenciamento dos diferentes tipos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50920" y="3343320"/>
            <a:ext cx="8569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mento na quantidade de resíduos produzidos e escassez de áreas para disposição f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tinação final inadequad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stência de catadores, inclusive crianças nos lixões e nas ru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alta de incentivo para o fortalecimento do mercado de material recicla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campanha nacional, estimulando a população a separar os materiais recicláveis e doá-los aos ca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3276720" y="2781360"/>
            <a:ext cx="2735280" cy="43164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brança inexistente ou insuficiente para a implementação de novos investi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os níveis de qualidade e eficiência n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linha de apoio à capacitação de recursos humanos e de catadores para a gestão dos resídu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continuidade de ações no âmbito loc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GU como principal fonte de recursos, sujeito a Cortes orçamentários e pulverização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quadros na estrutura do poder público das três esfer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a capacidade operacional na maioria dos OEM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 70% dos municípios não existe órgão específico para a Limpeza Urban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instrumentos adequados de regulação e controle sobre 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responsabilização do ger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uma Política Nacional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1989000"/>
            <a:ext cx="856908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L nº5.296/2005 da Política Nacional de Saneamento SNSA/MC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trizes para a prestação de serviços públicos de manejo dos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 de Política Nacional de Resíduos Sól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AMA/SQA/MMA com apoio do MCidades e de entidades públicas e outras organizaçõ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itê Interministerial de Inclusão Social de Catadores e à Erradicação dos Lixõ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(MinCidades/FUNASA/MMA/MDS e outro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26:50Z</dcterms:modified>
  <cp:revision>209</cp:revision>
  <dc:subject/>
  <dc:title>Slide 1</dc:title>
</cp:coreProperties>
</file>